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DF73-9C60-4A17-BED2-9EBDFFFC6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2B37-FF65-4E22-9757-FF941A2EF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6741-046A-474D-9BF5-ED77DB55B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EE91-01A6-48B2-98ED-2BE278D52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8930-65C4-4E5C-9CBC-208E0B8A2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7A63-C1DE-4A20-9D24-ED60986FF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4D3A-22CB-429C-A1B3-EF7B9F4AD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7E8E-F6CD-4970-9423-A7C9E9C94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E172-3215-4BA7-884E-61E99A9FC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C68E-73D7-4DA1-9763-FB00F582A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C20D-4C9A-434F-A004-358032B42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734F-E0B0-4FDE-8896-468C10BD6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26D7-47B0-4D5C-9659-F3F935162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47A7-826D-4CF0-8DF7-EF04F6808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B5C3-F8E3-415E-A223-9582827A4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91A2-9A85-4915-8E29-08FF7FDFD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E08-11DF-48C9-9C85-DF285EF6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1CC-1E72-4EEF-B4CA-3FD8959B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AFE-7AC2-49F1-BFB3-18AD382E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35D-8108-49D7-9EC4-3A72D203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992-3C8B-46BE-B2A0-1D4361F9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4C1-133D-48C4-95C1-2A2A0E2D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5DD-243A-43D8-B275-91075633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3DA-ED08-4263-9E70-1AA666EE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40F-5966-4EC1-AC25-B00862E4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0C4-CF04-4B5E-92D9-D1DD8519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D1C-2D44-430E-B672-DBE43742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FB4-D0E3-46F4-A360-AAE826E5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CAF5-EA5A-44DF-95FB-A61E359A1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and Development of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mmary Gland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53337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Sama ul Ha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24207" t="27239" r="43667" b="13569"/>
          <a:stretch/>
        </p:blipFill>
        <p:spPr>
          <a:xfrm>
            <a:off x="2224080" y="27000"/>
            <a:ext cx="6805800" cy="683100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76320" y="2130480"/>
            <a:ext cx="1828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Supply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erforating branches (Internal thoracic art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ateral thoracic artery (Axillary art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oracoacromial artery (Axillary art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tercostal art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C:\Users\ssarain\Desktop\Picture1.png"/>
          <p:cNvPicPr/>
          <p:nvPr/>
        </p:nvPicPr>
        <p:blipFill>
          <a:blip r:embed="rId1"/>
          <a:srcRect l="0" t="23110" r="0" b="0"/>
          <a:stretch/>
        </p:blipFill>
        <p:spPr>
          <a:xfrm>
            <a:off x="96840" y="1143000"/>
            <a:ext cx="8997840" cy="5410080"/>
          </a:xfrm>
          <a:prstGeom prst="rect">
            <a:avLst/>
          </a:prstGeom>
          <a:ln w="0">
            <a:noFill/>
          </a:ln>
        </p:spPr>
      </p:pic>
      <p:sp>
        <p:nvSpPr>
          <p:cNvPr id="71" name="Title 1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Supply of the Br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 Drainage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2" descr="C:\Users\ssarain\Desktop\qq.png"/>
          <p:cNvPicPr/>
          <p:nvPr/>
        </p:nvPicPr>
        <p:blipFill>
          <a:blip r:embed="rId1"/>
          <a:stretch/>
        </p:blipFill>
        <p:spPr>
          <a:xfrm>
            <a:off x="1028880" y="741240"/>
            <a:ext cx="70866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4320" t="29034" r="47996" b="22533"/>
          <a:stretch/>
        </p:blipFill>
        <p:spPr>
          <a:xfrm>
            <a:off x="2139840" y="76320"/>
            <a:ext cx="6934320" cy="6607080"/>
          </a:xfrm>
          <a:prstGeom prst="rect">
            <a:avLst/>
          </a:prstGeom>
          <a:ln w="0">
            <a:noFill/>
          </a:ln>
        </p:spPr>
      </p:pic>
      <p:sp>
        <p:nvSpPr>
          <p:cNvPr id="76" name="Title 1"/>
          <p:cNvSpPr/>
          <p:nvPr/>
        </p:nvSpPr>
        <p:spPr>
          <a:xfrm>
            <a:off x="0" y="2130480"/>
            <a:ext cx="2362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ants of the Br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atic Drainage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ateral quadran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Axillary or Pector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No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dial quadran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thoracic group of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Nodes (Paraster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ew lymph vessels drains in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ior intercostal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atic Drainage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25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ferior quadran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drain into abdomi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lymph No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ome lymphatic vessels communicate with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atic vessels of the opposite bre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0" t="0" r="2069" b="0"/>
          <a:stretch/>
        </p:blipFill>
        <p:spPr>
          <a:xfrm>
            <a:off x="1517760" y="117360"/>
            <a:ext cx="7556400" cy="6635880"/>
          </a:xfrm>
          <a:prstGeom prst="rect">
            <a:avLst/>
          </a:prstGeom>
          <a:ln w="0">
            <a:noFill/>
          </a:ln>
        </p:spPr>
      </p:pic>
      <p:sp>
        <p:nvSpPr>
          <p:cNvPr id="82" name="Title 1"/>
          <p:cNvSpPr/>
          <p:nvPr/>
        </p:nvSpPr>
        <p:spPr>
          <a:xfrm>
            <a:off x="152280" y="228600"/>
            <a:ext cx="2362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 Drainage of Br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rcRect l="24683" t="21659" r="31034" b="16422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active &amp; inactive ph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scan0024"/>
          <p:cNvPicPr/>
          <p:nvPr/>
        </p:nvPicPr>
        <p:blipFill>
          <a:blip r:embed="rId1"/>
          <a:stretch/>
        </p:blipFill>
        <p:spPr>
          <a:xfrm>
            <a:off x="173160" y="990720"/>
            <a:ext cx="4572000" cy="5738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can0023"/>
          <p:cNvPicPr/>
          <p:nvPr/>
        </p:nvPicPr>
        <p:blipFill>
          <a:blip r:embed="rId2"/>
          <a:srcRect l="0" t="0" r="0" b="4474"/>
          <a:stretch/>
        </p:blipFill>
        <p:spPr>
          <a:xfrm>
            <a:off x="4856040" y="1130400"/>
            <a:ext cx="4191120" cy="545940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4"/>
          <p:cNvSpPr/>
          <p:nvPr/>
        </p:nvSpPr>
        <p:spPr>
          <a:xfrm>
            <a:off x="4745160" y="990720"/>
            <a:ext cx="0" cy="5738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gross structure of the br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its blood supply and lymphatic drain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evelopment of breast and its congenital anoma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2438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mammary g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scan0022"/>
          <p:cNvPicPr/>
          <p:nvPr/>
        </p:nvPicPr>
        <p:blipFill>
          <a:blip r:embed="rId1"/>
          <a:stretch/>
        </p:blipFill>
        <p:spPr>
          <a:xfrm>
            <a:off x="3054240" y="52560"/>
            <a:ext cx="5791320" cy="67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rcRect l="43956" t="13891" r="16096" b="22025"/>
          <a:stretch/>
        </p:blipFill>
        <p:spPr>
          <a:xfrm>
            <a:off x="973080" y="61920"/>
            <a:ext cx="70102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6104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odified Sweat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rst appear as bilateral bands of thickened epidermis called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lines (mammary rid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the 7</a:t>
            </a:r>
            <a:r>
              <a:rPr b="0" lang="en-US" sz="32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week these lines extends on each side of the bod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Forelimb to the region of Hindli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6104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jor part of ea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lines disappears shor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mall portion of the mammary lines in the thoracic region persis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penetrates the underlying mesench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t forms 16 to 24 sprouts which in turn give rise to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mall solid b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prenatal life, the epithelial sprouts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nalize and form lactiferous 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ly lactiferous ducts open into a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mall epithelial pi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hortly after birth transformed into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ip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birth lactiferous ducts are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void of alve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uberty alveoli and excretory ducts form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ue to hormonal cha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rcRect l="42726" t="35120" r="17418" b="16071"/>
          <a:stretch/>
        </p:blipFill>
        <p:spPr>
          <a:xfrm>
            <a:off x="65160" y="160200"/>
            <a:ext cx="902808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Anomalies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1084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olythelia (Accessary Nippl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ccessary nipples have formed due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 of fragments of the mammary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y develop anywhere along the mammary 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usually appear in the axillary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Anomalies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6104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olymastia (Supernumerary breas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ccurs when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nant of the mammary 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s into a complete bre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verted Nip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ferous ducts open in the origi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thelial pit that has failed to eve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24317" t="15975" r="47155" b="27704"/>
          <a:stretch/>
        </p:blipFill>
        <p:spPr>
          <a:xfrm>
            <a:off x="2774880" y="76320"/>
            <a:ext cx="6216840" cy="6684840"/>
          </a:xfrm>
          <a:prstGeom prst="rect">
            <a:avLst/>
          </a:prstGeom>
          <a:ln w="0">
            <a:noFill/>
          </a:ln>
        </p:spPr>
      </p:pic>
      <p:sp>
        <p:nvSpPr>
          <p:cNvPr id="109" name="Title 1"/>
          <p:cNvSpPr/>
          <p:nvPr/>
        </p:nvSpPr>
        <p:spPr>
          <a:xfrm>
            <a:off x="-125280" y="152280"/>
            <a:ext cx="3200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Anomalies of the Br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rcRect l="24708" t="47107" r="30895" b="17668"/>
          <a:stretch/>
        </p:blipFill>
        <p:spPr>
          <a:xfrm>
            <a:off x="96840" y="1600200"/>
            <a:ext cx="899316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Title 1"/>
          <p:cNvSpPr/>
          <p:nvPr/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Anomaly of the Br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(Mammary G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d Sweat Glands of the sk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in females (Milk secre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dimentary and functionless in 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: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mispher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ynecomastia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ment of breasts in 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at puberty (Usually regres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side eff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tic cancer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monal im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(Mammary G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t: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tical:   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nd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to 6</a:t>
            </a:r>
            <a:r>
              <a:rPr b="0" lang="en-US" sz="32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ri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Base of the brea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rizontal: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ateral margin of the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sternum to the midaxil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breast lies in the superficial fascia (Pectoral fascia) lying on Pectoralis maj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breast lies in the superficial fascia lying on Serratus A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(Mammary G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920" y="1274760"/>
            <a:ext cx="861048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pple: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nical or Cylindrical prominence 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center of Areola (Devoid of fat, hair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&amp; sweat glan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ola: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ircular pigmented area of the skin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surrounding the base of the nipple,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aining sebaceous gla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illary Tail :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mall part of the breast extend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f Spence)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to the axi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1828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0" t="0" r="4585" b="0"/>
          <a:stretch/>
        </p:blipFill>
        <p:spPr>
          <a:xfrm>
            <a:off x="1882800" y="227160"/>
            <a:ext cx="721188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92440" y="222120"/>
            <a:ext cx="731016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Title 1"/>
          <p:cNvSpPr/>
          <p:nvPr/>
        </p:nvSpPr>
        <p:spPr>
          <a:xfrm>
            <a:off x="0" y="2130480"/>
            <a:ext cx="1828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(Mammary G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omammary Space: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pace filled with loose     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nnective tissue between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reast and pectoral fasc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breast consist of 15 to 20 lob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actiferous du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ach lobe opens on the summit of the nipple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ferous duct possesses a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lated Ampulla (Lactiferous sinu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before its termin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(Mammary G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brous sep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s the lobes of the mammary 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ory ligaments (of Cooper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mmary gland is firmly attached to the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rmis of the skin by these fibrous septa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rming  suspensory liga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6:11:37Z</dcterms:created>
  <dc:creator>www.arabswell.com</dc:creator>
  <dc:description/>
  <dc:language>en-US</dc:language>
  <cp:lastModifiedBy>Sama Ulhaqe sarain</cp:lastModifiedBy>
  <dcterms:modified xsi:type="dcterms:W3CDTF">2012-05-16T09:49:28Z</dcterms:modified>
  <cp:revision>94</cp:revision>
  <dc:subject/>
  <dc:title>BREAST DISEASES</dc:title>
</cp:coreProperties>
</file>